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D21-424E-4CA5-AB8F-61B74213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8EA-1C7E-413B-B095-9CCD400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7C2-3FA0-473E-9D6D-70B8AD62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471-3BA9-46DB-86D8-281B84BF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153-4801-4FC7-B3CF-D93D42FB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9863-2DCA-4878-A1CA-3ADE4962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74C-32AF-4EAE-8839-3656FDCB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FFC0-63CF-44EC-8726-ADE0AD57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3D55-B839-451B-8874-B622663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6D0-66CD-410F-97EA-366B6274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9E4-AB5A-4A64-BD86-66AD3C7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6BF-ED25-482B-9EF7-DFBBDFC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169B-3F48-47AE-AE40-DC0D73FF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DC91-6677-4C4B-9719-883F6C8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DFAF-5CF7-40C8-BFB6-3908139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90F0-10BC-44B4-A498-D653B618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EC45-8FE1-44AB-93A5-B5F2B38B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265-DA29-44A8-8E4D-EED7CE8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407-83C3-45D9-9538-3135BD2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D4-3089-4BB3-981E-60238B7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384-8485-4D4C-914E-14CAE94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0D4-6603-4E45-8770-F9672F1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CC6-8ABB-4B34-BA0D-0A30E95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063-6091-440C-A859-ABF8FC6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8ADA-B4DD-4754-8DA9-B6045C0E31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619-B579-4E29-BC48-D3F4DC0283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παραλαμβανεν τα τεκνα και 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ωξεν τον λαον αὐτον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preaching the good 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γουσιν σ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ffffff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νθρωπος ἁμαρτωλο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ρφήτη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στ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Οὐκ ἐπίστευσαω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 αὐτοῦ τοῦς ὀφθαλμοὺς ἡμεις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8-09-07T14:19:21Z</dcterms:modified>
  <cp:revision>38</cp:revision>
  <dc:subject/>
  <dc:title>Slide 1</dc:title>
</cp:coreProperties>
</file>